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4E5B-5289-431D-B3C9-35A0537E00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2 hours: Quiz – 10 mins; Reading 1 – 20 mins; Jigsaw reading – 20 mins; Speaking – 20 mins; Writing – 4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D5B7-BDDB-4A48-8377-AF607B4EC5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se questions in 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2CF5-5198-4D13-B327-C0CA69FD52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 to quiz: 1/b  2/c  3/a  4/a  5/c  6/c  7/a  8/b     Learners can access this on-line, the teacher can print it out beforehand, or learners can read it from the sc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35EBD-7F3E-4926-8EEF-00B90FB18E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ccess these on-line, or the teacher can print them out beforeh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70FB-6DB4-4E34-B440-0A5D5B0DF93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 and write these on the board for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20FE-42D3-4F0B-AE4C-79E370FFEE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tick their completed letters to the board, then read each other’s, pointing out where they are successful and where they could be impro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390F-065E-4DEC-8F5D-12F516C3058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33D-EF29-4F28-818B-AB92CD7E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137-EA29-4773-A458-77605BC8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CBC-08FB-4F31-871E-C10A84B9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0018-8EA8-4BB4-AD9E-15566430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095-3786-474C-AABC-AA96ADE2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888-A434-4B48-AB87-576A48FD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57E-CE29-471B-A5FD-7E5B025C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A19-152B-4037-90F8-7B082F86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695-A07D-43DA-98CF-1AD1421E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BEC-51E4-44D4-909F-438E2525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01D-FC1C-4E9B-BAA0-103C3E41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A117-E745-4A17-9E6C-A0EF8812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ED91-1F5F-4167-8855-3994992541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The_Spirit_of_Saro-Wiwa_fights_again_in_the_Niger_Delta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58920" y="2130120"/>
            <a:ext cx="5398920" cy="25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0" spc="-1" strike="noStrike">
                <a:solidFill>
                  <a:srgbClr val="000000"/>
                </a:solidFill>
                <a:latin typeface="Calibri"/>
              </a:rPr>
              <a:t>Oil</a:t>
            </a:r>
            <a:endParaRPr b="0" lang="en-US" sz="1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5084640"/>
            <a:ext cx="7016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667240" cy="3771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649680" y="333360"/>
            <a:ext cx="5175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560" y="1916280"/>
            <a:ext cx="87375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Reading: articles about oi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b050"/>
                </a:solidFill>
                <a:latin typeface="Calibri"/>
              </a:rPr>
              <a:t>Speaking: about problems and solu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7030a0"/>
                </a:solidFill>
                <a:latin typeface="Calibri"/>
              </a:rPr>
              <a:t>Writing: a formal persuasive lett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5940360" y="4365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780000" y="4255920"/>
            <a:ext cx="1695240" cy="239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79200" y="4300560"/>
            <a:ext cx="3340440" cy="22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6804000" y="115920"/>
            <a:ext cx="2287440" cy="15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250920" y="115920"/>
            <a:ext cx="216036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125000"/>
            <a:ext cx="8785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Where is Ogoni? (one of the most polluted places in the world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ustralia      b) Nigeria    c) Germa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. Why are people protesting in Ogoni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They want more money      b) They want more oil   c) They want less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. How long have they had oil pollution in Ogoni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50 years   b) 10 years   c) 5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. How much money did Shell pay the Ogoni community in 1970 when the pollution was very bad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£168    b) £1680    c) £16,8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lnSpc>
                <a:spcPct val="90000"/>
              </a:lnSpc>
              <a:spcBef>
                <a:spcPts val="75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5. Who was Ken Saro-Wiwa?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Shell worker who suffered from poll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Nigerian murderer who didn’t like Sh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a protester who the Nigerian government kill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6. The levels of dangerous chemicals in the water in Ogoniland a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9 times    b) 90 times    c) 900 ti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more than the maximum WHO (World Health Organisation) lim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7. Life expectancy in the Niger Delta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45    b) 52    c) 59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8. After the oil spills in 2008 and 2009 that destroyed the area, Shell offered to pay abou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GB" sz="3000" spc="-1" strike="noStrike">
                <a:solidFill>
                  <a:srgbClr val="0070c0"/>
                </a:solidFill>
                <a:latin typeface="Calibri"/>
              </a:rPr>
              <a:t>$5 million    b) $50 million    c) $500 mill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br>
              <a:rPr sz="40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The_Spirit_of_Saro-Wiwa_fights_again_in_the_Niger_Delt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"/>
          <p:cNvPicPr/>
          <p:nvPr/>
        </p:nvPicPr>
        <p:blipFill>
          <a:blip r:embed="rId2"/>
          <a:stretch/>
        </p:blipFill>
        <p:spPr>
          <a:xfrm>
            <a:off x="1174680" y="1600200"/>
            <a:ext cx="6794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Jigsaw read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7892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ivide into groups of 4 (A, B, C and D). Each read one of these articles about oil (C &amp; D are shorter articles), and find problems and solutions about oil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)  http://eewiki.newint.org/index.php/Ending_the_Oil_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) http://eewiki.newint.org/index.php/I_was_watched_by_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Universities_take_action_on_anti-fossil_fu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ttp://eewiki.newint.org/index.php/Football_must_stop_working_with_oil_compan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372360" y="5445000"/>
            <a:ext cx="2220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15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In groups of A, B, C and D, discuss: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600200"/>
            <a:ext cx="8570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Calibri"/>
              </a:rPr>
              <a:t>OIL: problems and solutions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454640" y="3716280"/>
            <a:ext cx="4440240" cy="2957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66680" y="3933720"/>
            <a:ext cx="34210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 pairs, write a letter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a) UEF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b) your local football team 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c) your local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suade them to stop investing in oil, and explain the reasons why this is important for the world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292720" y="189000"/>
            <a:ext cx="371952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1:03:42Z</dcterms:created>
  <dc:creator>Linda Ruas</dc:creator>
  <dc:description/>
  <dc:language>en-US</dc:language>
  <cp:lastModifiedBy>Linda Ruas</cp:lastModifiedBy>
  <dcterms:modified xsi:type="dcterms:W3CDTF">2014-11-23T16:03:09Z</dcterms:modified>
  <cp:revision>10</cp:revision>
  <dc:subject/>
  <dc:title>Oil</dc:title>
</cp:coreProperties>
</file>